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324-6A9B-4507-A44E-7CE28BDB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989-13C1-435D-9126-C401FDE9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D43-1D44-4BAA-AB4E-3588C0B8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BF9-65E6-482E-BF22-5997F76E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DE0B-C3E2-46A4-9588-8706B237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4B85-32A0-48B1-AD07-C053F7F5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A8E2-6F78-468D-B115-BF0B7F87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7CC7-39E5-4416-A239-E8B2CACE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3337-424A-42BD-8786-9B96A1BF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A357-13D1-445D-AAE8-24CC01B3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8968-A7C4-4D22-AC61-8E7C4D01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21D-4EE1-4DF1-91D2-ADEFC724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19A7-8124-48B4-8184-33FB6707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A56E-9640-48BC-AAA2-1746FC3A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AF74-FAA7-4F3A-96B5-905DD835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0748-D825-4F6C-B0F4-8D3BDCD8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A327-5EE1-4096-ACA4-0672B987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C67-2208-4741-8B50-4ADF7DD1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0B2-AEF2-4B95-90DA-C7126480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7C7-B20A-433A-81D6-54D36EAF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B11-8A25-40CD-8EE7-A733FF1C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C7A-BE1D-4DB2-BEAE-640B2F75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9C4-BED3-4ECF-8F5C-CECBFCDF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46DE-7ABA-4080-B7E1-0078A118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0DF3-E1D7-452E-8891-320030D1D71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07C3-6E8D-497A-BEA2-3BEA242F223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aliza SWO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undatia ADOLESCENTU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ncte ta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ncte slab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Oportunităț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Amenință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21:14:53Z</dcterms:created>
  <dc:creator>AS</dc:creator>
  <dc:description/>
  <dc:language>en-US</dc:language>
  <cp:lastModifiedBy>AS</cp:lastModifiedBy>
  <dcterms:modified xsi:type="dcterms:W3CDTF">2010-01-08T15:55:48Z</dcterms:modified>
  <cp:revision>4</cp:revision>
  <dc:subject/>
  <dc:title>Analiza SWOT</dc:title>
</cp:coreProperties>
</file>